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DA3B-2D99-42CF-987A-9BDA74CA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EC00-3674-4A7E-86A1-6035493F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813B-A657-403C-8301-E60045342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2C51-B6C4-4983-920D-5B19DD9E2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85E6-C5BD-4B00-81A7-EEA21146B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45C7-D850-40C8-BCC7-AB188EC3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8D8F-1CB6-4EBA-BEB3-36D5EBD9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3731-BC23-4D48-AC14-E46F3C35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41AD-698E-407E-BA4B-AA75722A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7C94-FC98-4FA1-8807-55BA34F8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B6CC-3D09-40C6-AEE3-C0749F9B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8C38-1EB3-49E0-BB51-B3259063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4A9F-1817-4F51-9869-06D24780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5E6F-9611-4D75-AE55-E6D81980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CAAD-CC85-4FD9-A711-C0986549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C91F-3CBC-4CED-9BD5-693736E71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2DEF-0742-480B-9D36-413AFF9CE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EFDF-ABE9-4831-B308-6F7253F0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B461-CACB-422A-99E9-4EF64738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ED90-B426-4016-BD9E-D7070010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2777-AF2D-4BED-91F6-9C56D667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2CB2-9DAF-48F0-981E-B0593139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E270-0110-40C8-9B87-E83A4A2C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BA7C-6698-4628-8975-C5331A1A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5AF7-D469-4EED-BFE2-0ADB91559A1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B573-8F5A-423D-A158-D6AF329E994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2000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Earwig Factory"/>
              </a:rPr>
              <a:t>Freshmen</a:t>
            </a:r>
            <a:r>
              <a:rPr b="0" lang="en-US" sz="7200" spc="-1" strike="noStrike">
                <a:solidFill>
                  <a:srgbClr val="ff0000"/>
                </a:solidFill>
                <a:latin typeface="Earwig Factory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Earwig Factory"/>
              </a:rPr>
              <a:t>Class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209680" y="5866920"/>
            <a:ext cx="6934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pee"/>
              </a:rPr>
              <a:t>Purpose</a:t>
            </a:r>
            <a:r>
              <a:rPr b="1" lang="en-US" sz="4800" spc="-1" strike="noStrike">
                <a:solidFill>
                  <a:srgbClr val="000000"/>
                </a:solidFill>
                <a:latin typeface="Boopee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opee"/>
              </a:rPr>
              <a:t>of Advisory Peri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8636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7162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lue Highway Linocut"/>
              </a:rPr>
              <a:t>What is the purpose of advisory period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rovide general academic, financial, college and career information and guidance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ach grade level has a specific curriculum designed to meet the needs of that particular group.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eshmen Advisory Focu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igh School Transi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ademic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CAP portfolio requirements and suppo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okerman"/>
              </a:rPr>
              <a:t>Freshmen Focus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Jokerman"/>
              </a:rPr>
              <a:t>High School Transition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304920" y="1676160"/>
            <a:ext cx="6400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nk Crew will come to Freshmen advisories a few times throughout the year to facilitate activiti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ilitating a smooth and successful high school transition is a main goal of Link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Cre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37200" y="2819520"/>
            <a:ext cx="3106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okerman"/>
              </a:rPr>
              <a:t>Freshmen Focus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Academ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st Prepa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nford Ten/AIMS reading, writing and math skill buil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y skills and final exam pre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okerman"/>
              </a:rPr>
              <a:t>Freshmen Foc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Jokerman"/>
              </a:rPr>
              <a:t>ECA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CAP career portfolio planning and support will be provided in Advisory throughout the year including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eer explo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gistration information related to four-year pl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port for academic progress (AIMS prep) toward academic goals/gradu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59608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21:15:10Z</dcterms:created>
  <dc:creator>Tech</dc:creator>
  <dc:description/>
  <dc:language>en-US</dc:language>
  <cp:lastModifiedBy>Leif Erickson</cp:lastModifiedBy>
  <dcterms:modified xsi:type="dcterms:W3CDTF">2011-06-05T22:31:21Z</dcterms:modified>
  <cp:revision>12</cp:revision>
  <dc:subject/>
  <dc:title>Sophomore Class </dc:title>
</cp:coreProperties>
</file>